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A86-9381-48C4-A2A9-372E6A4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70F-E92E-4D49-9195-E6E1796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A0B-909F-405C-AF9F-597B900F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CE3-B419-45EF-B846-FAFD974F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FA7-A8DF-4744-907B-3F11591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D02-7504-4EC4-BAC0-9CBE2F1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6EE-C628-46B9-9E4D-90F6152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241-8A77-4823-A011-8EE9B0E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697-B80F-4BC8-9D14-3A12C34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DE3-3E10-4690-8881-E5DF212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116-6AB0-4C42-ACEF-ECE80DB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5BB-A6EC-4511-AC6E-6141671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D32B-ADE4-4770-B17A-F7DEFFC5E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8672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06704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96080" y="4114800"/>
            <a:ext cx="533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16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27636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 rot="10800000"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flipH="1" rot="10800000">
            <a:off x="8381880" y="53316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4:23:59Z</dcterms:modified>
  <cp:revision>42</cp:revision>
  <dc:subject/>
  <dc:title>PowerPoint Presentation</dc:title>
</cp:coreProperties>
</file>